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0DB-7A87-4546-80D3-9EDFB6E8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7A3-B0CA-47C8-8024-24390AF4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1E6-CC83-49E9-9637-A8024F64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623-E52D-4C9B-A7D0-D528474A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D39-8D81-4AEF-A5D4-3CEA5A81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C31-8E39-4207-B30C-505AAD80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CD89-5C9C-4805-8E66-3881F710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FCB-8400-46E2-99AE-5455C3A3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AFB-A049-4F6E-B592-AFFB0B0F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8F2-F61C-44E4-BA78-4474D8D6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F84-60F6-4FD5-A9B7-88E437CD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A6A-230F-4A54-AFF7-A5681310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D209-801B-4201-A561-2E0414A303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Обман зрения (причуды нашего мозга) - 9 Июля 2011 - Сайт - Записки Зануды"/>
          <p:cNvPicPr/>
          <p:nvPr/>
        </p:nvPicPr>
        <p:blipFill>
          <a:blip r:embed="rId1"/>
          <a:stretch/>
        </p:blipFill>
        <p:spPr>
          <a:xfrm>
            <a:off x="1547640" y="44280"/>
            <a:ext cx="68137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403200" y="1744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1845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403848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63640" y="61920"/>
            <a:ext cx="5040360" cy="68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4 декабря 1825 г.: взгляд с позиций человека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XI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Содержимое 3" descr="На сенатской площади.png"/>
          <p:cNvPicPr/>
          <p:nvPr/>
        </p:nvPicPr>
        <p:blipFill>
          <a:blip r:embed="rId1"/>
          <a:stretch/>
        </p:blipFill>
        <p:spPr>
          <a:xfrm>
            <a:off x="611280" y="1916280"/>
            <a:ext cx="743400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6840" y="189000"/>
            <a:ext cx="40402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би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тор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шкин, поэз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манные судьб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лпа, крик Красный сне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яте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сил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4720" y="189000"/>
            <a:ext cx="4402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орянство против самодержа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вор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натская площад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и, кар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ажданский проте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ажданское муже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836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«Декабристы предстают в массовом сознании или корыстными узурпаторами, или прекрасными мечтателями, решившими принести себя в жертву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А они были прежде всего…»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8000" y="188640"/>
            <a:ext cx="8856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Декабристы предстают в массовом сознании или корыстными узурпаторами, или прекрасными мечтателями, решившими принести себя в жертв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они были прежде всего прежде всего – политик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итиками здравомыслящими. Ими двигал политический расчёт, предвидение того, что может произойти в России, осознание катастрофы, к которой ведёт страну самодержавие. Они смотрели далек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. А. Горд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0:25:43Z</dcterms:created>
  <dc:creator>Г.И. Непершина, МОУ СОШ № 15, г. Балашова</dc:creator>
  <dc:description/>
  <dc:language>en-US</dc:language>
  <cp:lastModifiedBy>User</cp:lastModifiedBy>
  <dcterms:modified xsi:type="dcterms:W3CDTF">2015-03-22T01:40:52Z</dcterms:modified>
  <cp:revision>98</cp:revision>
  <dc:subject>Восстание декабристов. Начало правления Николая I</dc:subject>
  <dc:title>Презентация к уроку истории России, 10 класс</dc:title>
</cp:coreProperties>
</file>